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15.png" ContentType="image/png"/>
  <Override PartName="/ppt/media/image3.jpeg" ContentType="image/jpeg"/>
  <Override PartName="/ppt/media/image37.jpeg" ContentType="image/jpeg"/>
  <Override PartName="/ppt/media/image25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9.jpeg" ContentType="image/jpeg"/>
  <Override PartName="/ppt/media/image48.png" ContentType="image/png"/>
  <Override PartName="/ppt/media/image43.png" ContentType="image/png"/>
  <Override PartName="/ppt/media/image40.jpeg" ContentType="image/jpeg"/>
  <Override PartName="/ppt/media/image46.png" ContentType="image/png"/>
  <Override PartName="/ppt/media/image55.png" ContentType="image/png"/>
  <Override PartName="/ppt/media/image45.jpeg" ContentType="image/jpeg"/>
  <Override PartName="/ppt/media/image12.jpeg" ContentType="image/jpeg"/>
  <Override PartName="/ppt/media/image13.png" ContentType="image/png"/>
  <Override PartName="/ppt/media/image49.gif" ContentType="image/gif"/>
  <Override PartName="/ppt/media/image54.png" ContentType="image/png"/>
  <Override PartName="/ppt/media/image50.jpeg" ContentType="image/jpeg"/>
  <Override PartName="/ppt/media/image52.png" ContentType="image/png"/>
  <Override PartName="/ppt/media/image30.jpeg" ContentType="image/jpeg"/>
  <Override PartName="/ppt/media/image51.jpeg" ContentType="image/jpeg"/>
  <Override PartName="/ppt/media/image41.png" ContentType="image/png"/>
  <Override PartName="/ppt/media/image53.png" ContentType="image/png"/>
  <Override PartName="/ppt/media/image42.png" ContentType="image/png"/>
  <Override PartName="/ppt/media/image36.jpeg" ContentType="image/jpeg"/>
  <Override PartName="/ppt/media/image11.jpeg" ContentType="image/jpeg"/>
  <Override PartName="/ppt/media/image34.jpeg" ContentType="image/jpeg"/>
  <Override PartName="/ppt/media/image44.gif" ContentType="image/gif"/>
  <Override PartName="/ppt/media/image47.png" ContentType="image/png"/>
  <Override PartName="/ppt/media/image35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3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1A059-CDF6-4781-85FF-A52C0BF9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73FA3-5584-4144-854C-261E9AE4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94505-BFC9-4638-BDE7-04F373C2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B7614-DCDC-47B8-9C84-05D236D0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41569-8DCC-4D0A-8636-C3BECD24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0EE57-260F-4C3B-B3F9-63EAAC80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C5F70-13E0-4243-B1F2-1DB9D600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926EC-428C-41D4-85E8-2634577D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BC8E6-36D9-485B-A3A0-58DC4F9D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1DFF5-4491-413D-9ED0-DCFB4B31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C8AE4-1609-4118-B026-D3B3F454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3F9CE-45A2-4F4D-A488-533EE6B9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954C4-CA0E-4CF5-92AF-B6228911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C4A2B-B64F-461C-8B6D-71759E33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E2787-7F65-479F-B202-8462875D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08210-EA2F-422F-9295-032F7855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D954F-05AD-4495-B375-86ECEC38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E0079-02A3-4991-ABAD-9619E54F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E8723-E17B-41F6-B2DE-A9E72BE0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86412-E5A4-4590-9C09-8064356D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82783-74F4-40E8-88EE-54386D36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A18D8-0FE4-4C5E-A215-06581A02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B179F-BC00-4A51-BA06-6520CCF6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4826A-846D-4416-9960-FD2D4590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86FCD-92FB-4429-9B92-C4E14BCE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20BF8-7E21-4B6E-9FBE-C2670DEA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7DAA3-3B9F-4AEB-BD0A-4FB5A023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E99FF-A048-4344-B9A1-4FE9BC0D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0518D-94CD-4D6C-868B-67DEECB9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92321-C7D8-4A92-A7F1-C4EA32B2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8377-5462-410A-914A-D24DE98C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BB405-50C8-45A8-8C8F-0E41BECC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F5917-FD52-4500-9BF2-959F8884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324EE-B2FA-4D02-BB8E-9599DD52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7637F-B95B-446C-A447-3D524726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30C18-AF1B-4A43-A931-F1973E29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1D88E-A73F-4814-86D6-05CD2B38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6CC12-28F1-4190-BD6A-76470687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ADE0A-17A6-4BE6-98B1-54AF0CAB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1093E-5639-4C33-B809-33B6E8A9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BB9E5-C777-4F7D-BBB5-BE74E7F4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D7CE-A19B-4A5C-B1CA-B063084F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0EB45-2CB4-411E-A0FE-64C22F55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FDFCA-338A-43D6-949F-102FC704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2BA2A-CAC3-4A43-9688-8AF24778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8676F-5CA9-4170-9A1E-A8FD2FE5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A6047-34D3-4F83-B7FF-00366890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9BCD8-08A6-4E0B-9E2B-D43C73C0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245B2-008B-4D9E-9515-C06595E3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2840F-848E-48EB-9407-3E95AEC3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F8C72-28C4-441A-9473-16EF6845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62A7F-4C65-4E1C-AC72-61A3D9C1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81E4-E2AF-4EF3-8D1B-A98C6C09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5BD0E-C4CE-45A7-A0B4-BAABC9FF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B019A-D9DA-4F28-BA5E-08127E64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B5582-946A-4B6B-BA11-82CE8EA9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EA503-3D2F-4079-B7D5-812D18A2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0C419-8CEA-4CBA-B3FD-37D9826C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39676-C0FC-4877-B802-D69EEA05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9B156-F3A8-4F7C-83F6-8B0DF29D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7D890-B2A0-4D17-B844-97868F57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4EA06-BD55-4D28-8766-89D346CC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F2105-F63D-4EA4-A054-14626EA9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70A6-FA72-4B13-8717-871400BB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E0CC3-439A-43EC-8C8D-34F09268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055A3-9430-40F2-AD4A-95A51E7E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BDABF-ED13-4374-A986-CB0F1E63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125B0-F4AE-409E-8B20-A8CECAAE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337DE-CF1B-448B-8AE4-C8F96B98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034A2-5707-45B2-969E-48A59C16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BE052-360C-4C5F-BDD4-86A467BC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B22FA-9413-422A-96F2-0F280F5B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A485D-4E92-4FE7-AE6B-C9D761B8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37D9-2867-4478-97F6-65EE9A97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94D0-5F2B-4E53-9F4F-F64A751B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1FA3-9905-49CB-8FEB-E9326CE6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FA73-002A-45CE-8B6D-EBF6AB10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BE02-1DDD-44BF-9639-F51194BF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6698-7670-4D77-B687-29FD572D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4C4F-3D9C-4CA3-99E1-A4323E9B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0A39-D12B-4AE1-835A-D706BB04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2CA3-49FE-4B1C-911C-4480B15D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859C-1B76-4251-90E2-0F7CDD3A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4E7E-9CFF-4FA7-9B37-C531C2A7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40CE-22D5-4EB9-B3EA-6380452D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B085-7752-4CB9-9BB1-9890CEA2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143A-D0A6-46F6-9E35-E0113095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5959-784A-4651-95FF-CB8923E7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1A2E-95E6-478D-BD1A-010247C3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236A-9778-460A-826D-E22A6780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5216-8919-47EA-A2BF-C4F39D37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F547-671C-4879-89D6-5580CFDA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F889-4419-40BE-B93A-B855E362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B31C4-69C5-4FE4-A157-2C3A51CB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A81C4-55A4-425A-BD00-05FC9616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73F10-97C9-4E37-9AAB-51CA2645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C3229-2B38-4FE6-8207-8C666C17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4DBD0-37CE-466A-8BED-223D1C51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3E825-AEBC-4003-987B-F271A499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77C35-E11E-459F-A860-BE4C78B2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E9D37-1093-4241-A99E-C45B72F4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AA795-5A7A-4757-ADBD-7D0D1873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7119B-A976-4529-AC87-C58C10CE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BDE17-0C6A-4ED8-A941-613D63F0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A295C-FC94-4B9C-BC32-672F406A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F9D7D-93A9-45F5-89A7-DB566675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B57C3-1A88-4F43-B6BA-87A6E74E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4996A-764B-4C7D-91BC-B6AFE27C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DD068-120D-4729-BDF8-E7F49A50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5AC6F-0480-4D63-A48E-F124179D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70299-1582-49D1-A25A-8508B497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94783-CA48-40D7-B2C6-B35DFA81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16463-498B-4C54-9A0E-E19616B4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20D34-A6FA-472A-8B1A-857C1683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00BC0-EA4C-42A2-A490-CA7E673D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75682-98DE-4E4B-9EBB-31125954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23823-5D4A-4F7D-8D14-A9555261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ECACA-2BFE-4AD8-A3C2-BF594573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13303-6168-48E2-923F-8A394D5B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77702-D1AF-4CDE-BFE7-A1E69232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F35A4-1530-4CD5-9F04-631423A6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C13F7-F218-4D82-BD85-04505FAB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D309E-D24A-4402-B008-DC68A569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8C169-47FD-421D-8DD2-92CB9133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F6690-2F02-4D60-BD8F-53BDB099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16514-8689-4C35-B337-6724D79B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34678-8D3A-48C9-9A03-16F057B5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A984C-FCA9-4F1A-9A07-76C5A4DD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F9143-DD69-4AAE-8CC7-6369EE53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0D8B5-D333-42FB-BC1C-F0586DB9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A743B-8AFD-4C6C-A101-1F6CC4A1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4B559-4335-45AD-9F02-F9212C05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997CA-452D-40A3-A0D1-1C9A53CE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AF0A3-2B52-4323-BEEF-2054D2F2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16D1A-709E-4BBC-84E4-ED52C3B9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7D48E-7CD6-47E9-ADD7-D19F31BB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9F896-C485-4219-A6E2-801F8839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9ECF9-C063-4875-B19C-EE8BCFBD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4CD6A-9ED0-438F-A85B-353CB305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F5F46-82C3-4AF8-9872-465308DF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6DE06-73D1-47A3-B13F-DEBC85D7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9E30D-3B86-42AD-B8F1-5060DFAA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A1FAE-F800-4DBB-BCDC-5C0CE78F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4487E-477A-4695-99CF-78C23495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A569-A5BD-4FE6-B44A-6258464FC93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5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6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7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8A53-B0AC-41AE-8F39-955585E7407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8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9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0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DFFD-F6AE-48EA-B3F8-267834EE29C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1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3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66C9-9398-466A-8C97-D3A97A7D575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F606-A020-48A4-8C7B-AF3F9298D8D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图片 57345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728640"/>
          </a:xfrm>
          <a:prstGeom prst="rect">
            <a:avLst/>
          </a:prstGeom>
          <a:ln w="0">
            <a:noFill/>
          </a:ln>
        </p:spPr>
      </p:pic>
      <p:grpSp>
        <p:nvGrpSpPr>
          <p:cNvPr id="37" name="组合 57346"/>
          <p:cNvGrpSpPr/>
          <p:nvPr/>
        </p:nvGrpSpPr>
        <p:grpSpPr>
          <a:xfrm>
            <a:off x="610920" y="3975120"/>
            <a:ext cx="7615440" cy="830160"/>
            <a:chOff x="610920" y="3975120"/>
            <a:chExt cx="7615440" cy="830160"/>
          </a:xfrm>
        </p:grpSpPr>
        <p:sp>
          <p:nvSpPr>
            <p:cNvPr id="38" name="椭圆 57347"/>
            <p:cNvSpPr/>
            <p:nvPr/>
          </p:nvSpPr>
          <p:spPr>
            <a:xfrm flipH="1">
              <a:off x="4407840" y="3975120"/>
              <a:ext cx="1104840" cy="82872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椭圆 57348"/>
            <p:cNvSpPr/>
            <p:nvPr/>
          </p:nvSpPr>
          <p:spPr>
            <a:xfrm flipH="1">
              <a:off x="7123320" y="3975120"/>
              <a:ext cx="1103040" cy="82872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椭圆 57349"/>
            <p:cNvSpPr/>
            <p:nvPr/>
          </p:nvSpPr>
          <p:spPr>
            <a:xfrm flipH="1">
              <a:off x="610560" y="3976200"/>
              <a:ext cx="1103400" cy="82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椭圆 57350"/>
            <p:cNvSpPr/>
            <p:nvPr/>
          </p:nvSpPr>
          <p:spPr>
            <a:xfrm flipH="1">
              <a:off x="5863680" y="3975120"/>
              <a:ext cx="1103400" cy="82872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椭圆 57351"/>
            <p:cNvSpPr/>
            <p:nvPr/>
          </p:nvSpPr>
          <p:spPr>
            <a:xfrm flipH="1">
              <a:off x="1897920" y="3975120"/>
              <a:ext cx="1103400" cy="82872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3605-7845-4366-A821-AFDCC77D216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58369"/>
          <p:cNvGrpSpPr/>
          <p:nvPr/>
        </p:nvGrpSpPr>
        <p:grpSpPr>
          <a:xfrm>
            <a:off x="1658520" y="1200240"/>
            <a:ext cx="6837840" cy="2399760"/>
            <a:chOff x="1658520" y="1200240"/>
            <a:chExt cx="6837840" cy="2399760"/>
          </a:xfrm>
        </p:grpSpPr>
        <p:sp>
          <p:nvSpPr>
            <p:cNvPr id="121" name="椭圆 58370"/>
            <p:cNvSpPr/>
            <p:nvPr/>
          </p:nvSpPr>
          <p:spPr>
            <a:xfrm flipH="1">
              <a:off x="6972120" y="1200240"/>
              <a:ext cx="152424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58371"/>
            <p:cNvSpPr/>
            <p:nvPr/>
          </p:nvSpPr>
          <p:spPr>
            <a:xfrm flipH="1">
              <a:off x="5181480" y="1200240"/>
              <a:ext cx="152424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椭圆 58372"/>
            <p:cNvSpPr/>
            <p:nvPr/>
          </p:nvSpPr>
          <p:spPr>
            <a:xfrm flipH="1">
              <a:off x="3390120" y="1200240"/>
              <a:ext cx="1523880" cy="11426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椭圆 58373"/>
            <p:cNvSpPr/>
            <p:nvPr/>
          </p:nvSpPr>
          <p:spPr>
            <a:xfrm flipH="1">
              <a:off x="3390120" y="2457360"/>
              <a:ext cx="152388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58374"/>
            <p:cNvSpPr/>
            <p:nvPr/>
          </p:nvSpPr>
          <p:spPr>
            <a:xfrm flipH="1">
              <a:off x="1658160" y="2457360"/>
              <a:ext cx="152388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椭圆 58375"/>
            <p:cNvSpPr/>
            <p:nvPr/>
          </p:nvSpPr>
          <p:spPr>
            <a:xfrm flipH="1">
              <a:off x="6972120" y="2457360"/>
              <a:ext cx="1524240" cy="11426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4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6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33EE-9B01-4164-9A81-C4B1F643096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8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9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891D-D70E-48A5-B2F3-37D7A2320FF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74BB-82DF-4C25-887C-FF4FAD644CB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9104-DDA0-4764-B44C-A005666A27F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CF11-8548-447E-842C-192F0C12610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9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0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1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8A0A-42E6-4D5E-A536-C8F7D4683FB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0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0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gif"/><Relationship Id="rId4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0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0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0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0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5.png"/><Relationship Id="rId3" Type="http://schemas.openxmlformats.org/officeDocument/2006/relationships/image" Target="../media/image55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0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矩形 5"/>
          <p:cNvSpPr/>
          <p:nvPr/>
        </p:nvSpPr>
        <p:spPr>
          <a:xfrm>
            <a:off x="76320" y="1425600"/>
            <a:ext cx="914400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标题 1"/>
          <p:cNvSpPr/>
          <p:nvPr/>
        </p:nvSpPr>
        <p:spPr>
          <a:xfrm>
            <a:off x="965160" y="1471680"/>
            <a:ext cx="7364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组合 3"/>
          <p:cNvGrpSpPr/>
          <p:nvPr/>
        </p:nvGrpSpPr>
        <p:grpSpPr>
          <a:xfrm>
            <a:off x="184320" y="263520"/>
            <a:ext cx="2062080" cy="544680"/>
            <a:chOff x="184320" y="263520"/>
            <a:chExt cx="2062080" cy="544680"/>
          </a:xfrm>
        </p:grpSpPr>
        <p:pic>
          <p:nvPicPr>
            <p:cNvPr id="608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27144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文本框 2"/>
            <p:cNvSpPr/>
            <p:nvPr/>
          </p:nvSpPr>
          <p:spPr>
            <a:xfrm>
              <a:off x="184320" y="26352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字词学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4"/>
          <p:cNvGrpSpPr/>
          <p:nvPr/>
        </p:nvGrpSpPr>
        <p:grpSpPr>
          <a:xfrm>
            <a:off x="1979640" y="933480"/>
            <a:ext cx="1887480" cy="1969920"/>
            <a:chOff x="1979640" y="933480"/>
            <a:chExt cx="1887480" cy="1969920"/>
          </a:xfrm>
        </p:grpSpPr>
        <p:pic>
          <p:nvPicPr>
            <p:cNvPr id="611" name="图片 2" descr=""/>
            <p:cNvPicPr/>
            <p:nvPr/>
          </p:nvPicPr>
          <p:blipFill>
            <a:blip r:embed="rId2"/>
            <a:stretch/>
          </p:blipFill>
          <p:spPr>
            <a:xfrm>
              <a:off x="1979640" y="101592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TextBox 4"/>
            <p:cNvSpPr/>
            <p:nvPr/>
          </p:nvSpPr>
          <p:spPr>
            <a:xfrm>
              <a:off x="2004840" y="93348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水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矩形 7"/>
          <p:cNvSpPr/>
          <p:nvPr/>
        </p:nvSpPr>
        <p:spPr>
          <a:xfrm>
            <a:off x="2247120" y="184320"/>
            <a:ext cx="147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宋体"/>
              </a:rPr>
              <a:t>shu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5" descr=""/>
          <p:cNvPicPr/>
          <p:nvPr/>
        </p:nvPicPr>
        <p:blipFill>
          <a:blip r:embed="rId3"/>
          <a:stretch/>
        </p:blipFill>
        <p:spPr>
          <a:xfrm>
            <a:off x="4813200" y="833400"/>
            <a:ext cx="2702160" cy="2252880"/>
          </a:xfrm>
          <a:prstGeom prst="rect">
            <a:avLst/>
          </a:prstGeom>
          <a:ln w="0">
            <a:noFill/>
          </a:ln>
        </p:spPr>
      </p:pic>
      <p:sp>
        <p:nvSpPr>
          <p:cNvPr id="615" name="TextBox 10"/>
          <p:cNvSpPr/>
          <p:nvPr/>
        </p:nvSpPr>
        <p:spPr>
          <a:xfrm>
            <a:off x="3703680" y="55440"/>
            <a:ext cx="208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会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15" descr=""/>
          <p:cNvPicPr/>
          <p:nvPr/>
        </p:nvPicPr>
        <p:blipFill>
          <a:blip r:embed="rId4"/>
          <a:stretch/>
        </p:blipFill>
        <p:spPr>
          <a:xfrm>
            <a:off x="1925640" y="3133800"/>
            <a:ext cx="2819520" cy="4190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6" descr=""/>
          <p:cNvPicPr/>
          <p:nvPr/>
        </p:nvPicPr>
        <p:blipFill>
          <a:blip r:embed="rId5"/>
          <a:stretch/>
        </p:blipFill>
        <p:spPr>
          <a:xfrm>
            <a:off x="1898640" y="3552840"/>
            <a:ext cx="5819760" cy="6094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7" descr=""/>
          <p:cNvPicPr/>
          <p:nvPr/>
        </p:nvPicPr>
        <p:blipFill>
          <a:blip r:embed="rId6"/>
          <a:stretch/>
        </p:blipFill>
        <p:spPr>
          <a:xfrm>
            <a:off x="1851120" y="4172040"/>
            <a:ext cx="4905360" cy="6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组合 4"/>
          <p:cNvGrpSpPr/>
          <p:nvPr/>
        </p:nvGrpSpPr>
        <p:grpSpPr>
          <a:xfrm>
            <a:off x="2184480" y="747720"/>
            <a:ext cx="1887480" cy="1969920"/>
            <a:chOff x="2184480" y="747720"/>
            <a:chExt cx="1887480" cy="1969920"/>
          </a:xfrm>
        </p:grpSpPr>
        <p:pic>
          <p:nvPicPr>
            <p:cNvPr id="620" name="图片 2" descr=""/>
            <p:cNvPicPr/>
            <p:nvPr/>
          </p:nvPicPr>
          <p:blipFill>
            <a:blip r:embed="rId1"/>
            <a:stretch/>
          </p:blipFill>
          <p:spPr>
            <a:xfrm>
              <a:off x="2184480" y="83016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TextBox 4"/>
            <p:cNvSpPr/>
            <p:nvPr/>
          </p:nvSpPr>
          <p:spPr>
            <a:xfrm>
              <a:off x="2209680" y="74772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去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矩形 7"/>
          <p:cNvSpPr/>
          <p:nvPr/>
        </p:nvSpPr>
        <p:spPr>
          <a:xfrm>
            <a:off x="2642400" y="0"/>
            <a:ext cx="96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宋体"/>
              </a:rPr>
              <a:t>q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5" descr=""/>
          <p:cNvPicPr/>
          <p:nvPr/>
        </p:nvPicPr>
        <p:blipFill>
          <a:blip r:embed="rId2"/>
          <a:stretch/>
        </p:blipFill>
        <p:spPr>
          <a:xfrm>
            <a:off x="4719600" y="415800"/>
            <a:ext cx="2765520" cy="23050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3" descr=""/>
          <p:cNvPicPr/>
          <p:nvPr/>
        </p:nvPicPr>
        <p:blipFill>
          <a:blip r:embed="rId3"/>
          <a:stretch/>
        </p:blipFill>
        <p:spPr>
          <a:xfrm>
            <a:off x="2184480" y="2876400"/>
            <a:ext cx="3628800" cy="3906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4" descr=""/>
          <p:cNvPicPr/>
          <p:nvPr/>
        </p:nvPicPr>
        <p:blipFill>
          <a:blip r:embed="rId4"/>
          <a:stretch/>
        </p:blipFill>
        <p:spPr>
          <a:xfrm>
            <a:off x="2157480" y="3333600"/>
            <a:ext cx="5124240" cy="5716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5" descr=""/>
          <p:cNvPicPr/>
          <p:nvPr/>
        </p:nvPicPr>
        <p:blipFill>
          <a:blip r:embed="rId5"/>
          <a:stretch/>
        </p:blipFill>
        <p:spPr>
          <a:xfrm>
            <a:off x="2157480" y="4033800"/>
            <a:ext cx="5800680" cy="5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组合 4"/>
          <p:cNvGrpSpPr/>
          <p:nvPr/>
        </p:nvGrpSpPr>
        <p:grpSpPr>
          <a:xfrm>
            <a:off x="2155680" y="830160"/>
            <a:ext cx="1920960" cy="1970280"/>
            <a:chOff x="2155680" y="830160"/>
            <a:chExt cx="1920960" cy="1970280"/>
          </a:xfrm>
        </p:grpSpPr>
        <p:pic>
          <p:nvPicPr>
            <p:cNvPr id="628" name="图片 2" descr=""/>
            <p:cNvPicPr/>
            <p:nvPr/>
          </p:nvPicPr>
          <p:blipFill>
            <a:blip r:embed="rId1"/>
            <a:stretch/>
          </p:blipFill>
          <p:spPr>
            <a:xfrm>
              <a:off x="2155680" y="912600"/>
              <a:ext cx="1887480" cy="18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TextBox 4"/>
            <p:cNvSpPr/>
            <p:nvPr/>
          </p:nvSpPr>
          <p:spPr>
            <a:xfrm>
              <a:off x="2238120" y="83016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来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矩形 7"/>
          <p:cNvSpPr/>
          <p:nvPr/>
        </p:nvSpPr>
        <p:spPr>
          <a:xfrm>
            <a:off x="2633400" y="82440"/>
            <a:ext cx="92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宋体"/>
              </a:rPr>
              <a:t>lá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5" descr=""/>
          <p:cNvPicPr/>
          <p:nvPr/>
        </p:nvPicPr>
        <p:blipFill>
          <a:blip r:embed="rId2"/>
          <a:stretch/>
        </p:blipFill>
        <p:spPr>
          <a:xfrm>
            <a:off x="4807080" y="409680"/>
            <a:ext cx="2825640" cy="23590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10" descr=""/>
          <p:cNvPicPr/>
          <p:nvPr/>
        </p:nvPicPr>
        <p:blipFill>
          <a:blip r:embed="rId3"/>
          <a:stretch/>
        </p:blipFill>
        <p:spPr>
          <a:xfrm>
            <a:off x="2071800" y="3009960"/>
            <a:ext cx="4429080" cy="3618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1" descr=""/>
          <p:cNvPicPr/>
          <p:nvPr/>
        </p:nvPicPr>
        <p:blipFill>
          <a:blip r:embed="rId4"/>
          <a:stretch/>
        </p:blipFill>
        <p:spPr>
          <a:xfrm>
            <a:off x="2071800" y="3448080"/>
            <a:ext cx="5276880" cy="6094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2" descr=""/>
          <p:cNvPicPr/>
          <p:nvPr/>
        </p:nvPicPr>
        <p:blipFill>
          <a:blip r:embed="rId5"/>
          <a:stretch/>
        </p:blipFill>
        <p:spPr>
          <a:xfrm>
            <a:off x="2039760" y="4162320"/>
            <a:ext cx="553428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组合 4"/>
          <p:cNvGrpSpPr/>
          <p:nvPr/>
        </p:nvGrpSpPr>
        <p:grpSpPr>
          <a:xfrm>
            <a:off x="2155680" y="830160"/>
            <a:ext cx="1887840" cy="1970280"/>
            <a:chOff x="2155680" y="830160"/>
            <a:chExt cx="1887840" cy="1970280"/>
          </a:xfrm>
        </p:grpSpPr>
        <p:pic>
          <p:nvPicPr>
            <p:cNvPr id="636" name="图片 2" descr=""/>
            <p:cNvPicPr/>
            <p:nvPr/>
          </p:nvPicPr>
          <p:blipFill>
            <a:blip r:embed="rId1"/>
            <a:stretch/>
          </p:blipFill>
          <p:spPr>
            <a:xfrm>
              <a:off x="2155680" y="912600"/>
              <a:ext cx="1887840" cy="18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TextBox 4"/>
            <p:cNvSpPr/>
            <p:nvPr/>
          </p:nvSpPr>
          <p:spPr>
            <a:xfrm>
              <a:off x="2180880" y="830160"/>
              <a:ext cx="18388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不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矩形 7"/>
          <p:cNvSpPr/>
          <p:nvPr/>
        </p:nvSpPr>
        <p:spPr>
          <a:xfrm>
            <a:off x="2686680" y="82440"/>
            <a:ext cx="96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宋体"/>
              </a:rPr>
              <a:t>b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5" descr=""/>
          <p:cNvPicPr/>
          <p:nvPr/>
        </p:nvPicPr>
        <p:blipFill>
          <a:blip r:embed="rId2"/>
          <a:stretch/>
        </p:blipFill>
        <p:spPr>
          <a:xfrm>
            <a:off x="4894200" y="662040"/>
            <a:ext cx="2560680" cy="21384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0" descr=""/>
          <p:cNvPicPr/>
          <p:nvPr/>
        </p:nvPicPr>
        <p:blipFill>
          <a:blip r:embed="rId3"/>
          <a:stretch/>
        </p:blipFill>
        <p:spPr>
          <a:xfrm>
            <a:off x="2181240" y="3114720"/>
            <a:ext cx="3171960" cy="4474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1" descr=""/>
          <p:cNvPicPr/>
          <p:nvPr/>
        </p:nvPicPr>
        <p:blipFill>
          <a:blip r:embed="rId4"/>
          <a:stretch/>
        </p:blipFill>
        <p:spPr>
          <a:xfrm>
            <a:off x="2147760" y="3581280"/>
            <a:ext cx="5010120" cy="6192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2" descr=""/>
          <p:cNvPicPr/>
          <p:nvPr/>
        </p:nvPicPr>
        <p:blipFill>
          <a:blip r:embed="rId5"/>
          <a:stretch/>
        </p:blipFill>
        <p:spPr>
          <a:xfrm>
            <a:off x="2100240" y="4191120"/>
            <a:ext cx="4343400" cy="6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5"/>
          <p:cNvSpPr/>
          <p:nvPr/>
        </p:nvSpPr>
        <p:spPr>
          <a:xfrm>
            <a:off x="0" y="819000"/>
            <a:ext cx="9144000" cy="525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>
                  <a:alpha val="8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ff"/>
                </a:solidFill>
                <a:latin typeface="Arial"/>
                <a:ea typeface="黑体"/>
              </a:rPr>
              <a:t>点击下面的视频开始笔顺学习吧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黑体"/>
              </a:rPr>
              <a:t>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4" descr="F:\PPT模板及注意事项\笔顺视频链接图片.png"/>
          <p:cNvPicPr/>
          <p:nvPr/>
        </p:nvPicPr>
        <p:blipFill>
          <a:blip r:embed="rId1"/>
          <a:stretch/>
        </p:blipFill>
        <p:spPr>
          <a:xfrm>
            <a:off x="2362320" y="1685880"/>
            <a:ext cx="4343400" cy="26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组合 4"/>
          <p:cNvGrpSpPr/>
          <p:nvPr/>
        </p:nvGrpSpPr>
        <p:grpSpPr>
          <a:xfrm>
            <a:off x="1784520" y="1398600"/>
            <a:ext cx="1920600" cy="1969920"/>
            <a:chOff x="1784520" y="1398600"/>
            <a:chExt cx="1920600" cy="1969920"/>
          </a:xfrm>
        </p:grpSpPr>
        <p:pic>
          <p:nvPicPr>
            <p:cNvPr id="646" name="图片 2" descr=""/>
            <p:cNvPicPr/>
            <p:nvPr/>
          </p:nvPicPr>
          <p:blipFill>
            <a:blip r:embed="rId1"/>
            <a:stretch/>
          </p:blipFill>
          <p:spPr>
            <a:xfrm>
              <a:off x="1784520" y="1481040"/>
              <a:ext cx="188712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TextBox 4"/>
            <p:cNvSpPr/>
            <p:nvPr/>
          </p:nvSpPr>
          <p:spPr>
            <a:xfrm>
              <a:off x="1866960" y="1398600"/>
              <a:ext cx="18381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远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矩形 7"/>
          <p:cNvSpPr/>
          <p:nvPr/>
        </p:nvSpPr>
        <p:spPr>
          <a:xfrm>
            <a:off x="1930680" y="625320"/>
            <a:ext cx="169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yuǎ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矩形 1"/>
          <p:cNvSpPr/>
          <p:nvPr/>
        </p:nvSpPr>
        <p:spPr>
          <a:xfrm>
            <a:off x="5132880" y="3633840"/>
            <a:ext cx="222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yuǎn fā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远  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10"/>
          <p:cNvSpPr/>
          <p:nvPr/>
        </p:nvSpPr>
        <p:spPr>
          <a:xfrm>
            <a:off x="3554280" y="239760"/>
            <a:ext cx="208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会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2" descr=""/>
          <p:cNvPicPr/>
          <p:nvPr/>
        </p:nvPicPr>
        <p:blipFill>
          <a:blip r:embed="rId2"/>
          <a:stretch/>
        </p:blipFill>
        <p:spPr>
          <a:xfrm>
            <a:off x="4754520" y="1219320"/>
            <a:ext cx="2463840" cy="206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组合 4"/>
          <p:cNvGrpSpPr/>
          <p:nvPr/>
        </p:nvGrpSpPr>
        <p:grpSpPr>
          <a:xfrm>
            <a:off x="1784520" y="1341360"/>
            <a:ext cx="1887480" cy="2027160"/>
            <a:chOff x="1784520" y="1341360"/>
            <a:chExt cx="1887480" cy="2027160"/>
          </a:xfrm>
        </p:grpSpPr>
        <p:pic>
          <p:nvPicPr>
            <p:cNvPr id="653" name="图片 2" descr=""/>
            <p:cNvPicPr/>
            <p:nvPr/>
          </p:nvPicPr>
          <p:blipFill>
            <a:blip r:embed="rId1"/>
            <a:stretch/>
          </p:blipFill>
          <p:spPr>
            <a:xfrm>
              <a:off x="1784520" y="148104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TextBox 4"/>
            <p:cNvSpPr/>
            <p:nvPr/>
          </p:nvSpPr>
          <p:spPr>
            <a:xfrm>
              <a:off x="1819440" y="134136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有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矩形 7"/>
          <p:cNvSpPr/>
          <p:nvPr/>
        </p:nvSpPr>
        <p:spPr>
          <a:xfrm>
            <a:off x="2080440" y="650880"/>
            <a:ext cx="13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yǒ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1"/>
          <p:cNvSpPr/>
          <p:nvPr/>
        </p:nvSpPr>
        <p:spPr>
          <a:xfrm>
            <a:off x="5157360" y="3610080"/>
            <a:ext cx="155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yǒu q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 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2" descr=""/>
          <p:cNvPicPr/>
          <p:nvPr/>
        </p:nvPicPr>
        <p:blipFill>
          <a:blip r:embed="rId2"/>
          <a:stretch/>
        </p:blipFill>
        <p:spPr>
          <a:xfrm>
            <a:off x="4994280" y="485640"/>
            <a:ext cx="2800440" cy="288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组合 4"/>
          <p:cNvGrpSpPr/>
          <p:nvPr/>
        </p:nvGrpSpPr>
        <p:grpSpPr>
          <a:xfrm>
            <a:off x="1784520" y="1398600"/>
            <a:ext cx="1887480" cy="1969920"/>
            <a:chOff x="1784520" y="1398600"/>
            <a:chExt cx="1887480" cy="1969920"/>
          </a:xfrm>
        </p:grpSpPr>
        <p:pic>
          <p:nvPicPr>
            <p:cNvPr id="659" name="图片 2" descr=""/>
            <p:cNvPicPr/>
            <p:nvPr/>
          </p:nvPicPr>
          <p:blipFill>
            <a:blip r:embed="rId1"/>
            <a:stretch/>
          </p:blipFill>
          <p:spPr>
            <a:xfrm>
              <a:off x="1784520" y="148104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TextBox 4"/>
            <p:cNvSpPr/>
            <p:nvPr/>
          </p:nvSpPr>
          <p:spPr>
            <a:xfrm>
              <a:off x="1810080" y="139860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色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矩形 7"/>
          <p:cNvSpPr/>
          <p:nvPr/>
        </p:nvSpPr>
        <p:spPr>
          <a:xfrm>
            <a:off x="2306880" y="650880"/>
            <a:ext cx="84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s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矩形 1"/>
          <p:cNvSpPr/>
          <p:nvPr/>
        </p:nvSpPr>
        <p:spPr>
          <a:xfrm>
            <a:off x="5121360" y="3386160"/>
            <a:ext cx="147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yán s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颜 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2" descr=""/>
          <p:cNvPicPr/>
          <p:nvPr/>
        </p:nvPicPr>
        <p:blipFill>
          <a:blip r:embed="rId2"/>
          <a:stretch/>
        </p:blipFill>
        <p:spPr>
          <a:xfrm>
            <a:off x="4376880" y="1398600"/>
            <a:ext cx="3773520" cy="173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组合 4"/>
          <p:cNvGrpSpPr/>
          <p:nvPr/>
        </p:nvGrpSpPr>
        <p:grpSpPr>
          <a:xfrm>
            <a:off x="1784520" y="1398600"/>
            <a:ext cx="1887480" cy="1969920"/>
            <a:chOff x="1784520" y="1398600"/>
            <a:chExt cx="1887480" cy="1969920"/>
          </a:xfrm>
        </p:grpSpPr>
        <p:pic>
          <p:nvPicPr>
            <p:cNvPr id="665" name="图片 2" descr=""/>
            <p:cNvPicPr/>
            <p:nvPr/>
          </p:nvPicPr>
          <p:blipFill>
            <a:blip r:embed="rId1"/>
            <a:stretch/>
          </p:blipFill>
          <p:spPr>
            <a:xfrm>
              <a:off x="1784520" y="148104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TextBox 4"/>
            <p:cNvSpPr/>
            <p:nvPr/>
          </p:nvSpPr>
          <p:spPr>
            <a:xfrm>
              <a:off x="1810080" y="139860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近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矩形 7"/>
          <p:cNvSpPr/>
          <p:nvPr/>
        </p:nvSpPr>
        <p:spPr>
          <a:xfrm>
            <a:off x="2251440" y="650880"/>
            <a:ext cx="9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jì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矩形 1"/>
          <p:cNvSpPr/>
          <p:nvPr/>
        </p:nvSpPr>
        <p:spPr>
          <a:xfrm>
            <a:off x="5264640" y="3386160"/>
            <a:ext cx="139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jìn s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近 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2" descr=""/>
          <p:cNvPicPr/>
          <p:nvPr/>
        </p:nvPicPr>
        <p:blipFill>
          <a:blip r:embed="rId2"/>
          <a:stretch/>
        </p:blipFill>
        <p:spPr>
          <a:xfrm>
            <a:off x="5332320" y="495360"/>
            <a:ext cx="1623960" cy="28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组合 4"/>
          <p:cNvGrpSpPr/>
          <p:nvPr/>
        </p:nvGrpSpPr>
        <p:grpSpPr>
          <a:xfrm>
            <a:off x="1784520" y="1398600"/>
            <a:ext cx="1887480" cy="1969920"/>
            <a:chOff x="1784520" y="1398600"/>
            <a:chExt cx="1887480" cy="1969920"/>
          </a:xfrm>
        </p:grpSpPr>
        <p:pic>
          <p:nvPicPr>
            <p:cNvPr id="671" name="图片 2" descr=""/>
            <p:cNvPicPr/>
            <p:nvPr/>
          </p:nvPicPr>
          <p:blipFill>
            <a:blip r:embed="rId1"/>
            <a:stretch/>
          </p:blipFill>
          <p:spPr>
            <a:xfrm>
              <a:off x="1784520" y="148104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TextBox 4"/>
            <p:cNvSpPr/>
            <p:nvPr/>
          </p:nvSpPr>
          <p:spPr>
            <a:xfrm>
              <a:off x="1810080" y="139860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听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矩形 7"/>
          <p:cNvSpPr/>
          <p:nvPr/>
        </p:nvSpPr>
        <p:spPr>
          <a:xfrm>
            <a:off x="2019960" y="650880"/>
            <a:ext cx="141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tīn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矩形 1"/>
          <p:cNvSpPr/>
          <p:nvPr/>
        </p:nvSpPr>
        <p:spPr>
          <a:xfrm>
            <a:off x="5160240" y="3386160"/>
            <a:ext cx="201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qīnɡ tī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倾  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2" descr=""/>
          <p:cNvPicPr/>
          <p:nvPr/>
        </p:nvPicPr>
        <p:blipFill>
          <a:blip r:embed="rId2"/>
          <a:stretch/>
        </p:blipFill>
        <p:spPr>
          <a:xfrm>
            <a:off x="5216400" y="361800"/>
            <a:ext cx="1974960" cy="29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组合 3"/>
          <p:cNvGrpSpPr/>
          <p:nvPr/>
        </p:nvGrpSpPr>
        <p:grpSpPr>
          <a:xfrm>
            <a:off x="184320" y="263520"/>
            <a:ext cx="2062080" cy="544680"/>
            <a:chOff x="184320" y="263520"/>
            <a:chExt cx="2062080" cy="544680"/>
          </a:xfrm>
        </p:grpSpPr>
        <p:pic>
          <p:nvPicPr>
            <p:cNvPr id="581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27144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文本框 2"/>
            <p:cNvSpPr/>
            <p:nvPr/>
          </p:nvSpPr>
          <p:spPr>
            <a:xfrm>
              <a:off x="184320" y="26352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"/>
          <p:cNvSpPr/>
          <p:nvPr/>
        </p:nvSpPr>
        <p:spPr>
          <a:xfrm>
            <a:off x="257040" y="950760"/>
            <a:ext cx="8561520" cy="18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本课会认字、会写字，认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偏旁“辶、、士”。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确、流利地朗读课文；知道“远”和“近”、“有”和“无”、“来”和“去”是意思相反的词。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解课文内容，感受诗中描绘的景色，懂得这首诗讲的是一幅山水画，激发热爱自然、喜爱古诗的情感。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组合 4"/>
          <p:cNvGrpSpPr/>
          <p:nvPr/>
        </p:nvGrpSpPr>
        <p:grpSpPr>
          <a:xfrm>
            <a:off x="1784520" y="1398600"/>
            <a:ext cx="1887480" cy="1969920"/>
            <a:chOff x="1784520" y="1398600"/>
            <a:chExt cx="1887480" cy="1969920"/>
          </a:xfrm>
        </p:grpSpPr>
        <p:pic>
          <p:nvPicPr>
            <p:cNvPr id="677" name="图片 2" descr=""/>
            <p:cNvPicPr/>
            <p:nvPr/>
          </p:nvPicPr>
          <p:blipFill>
            <a:blip r:embed="rId1"/>
            <a:stretch/>
          </p:blipFill>
          <p:spPr>
            <a:xfrm>
              <a:off x="1784520" y="148104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TextBox 4"/>
            <p:cNvSpPr/>
            <p:nvPr/>
          </p:nvSpPr>
          <p:spPr>
            <a:xfrm>
              <a:off x="1810080" y="139860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无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矩形 7"/>
          <p:cNvSpPr/>
          <p:nvPr/>
        </p:nvSpPr>
        <p:spPr>
          <a:xfrm>
            <a:off x="2176920" y="650880"/>
            <a:ext cx="110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w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"/>
          <p:cNvSpPr/>
          <p:nvPr/>
        </p:nvSpPr>
        <p:spPr>
          <a:xfrm>
            <a:off x="5089320" y="3386160"/>
            <a:ext cx="153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wú n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 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2"/>
          <a:stretch/>
        </p:blipFill>
        <p:spPr>
          <a:xfrm>
            <a:off x="5100480" y="428760"/>
            <a:ext cx="1879920" cy="290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组合 4"/>
          <p:cNvGrpSpPr/>
          <p:nvPr/>
        </p:nvGrpSpPr>
        <p:grpSpPr>
          <a:xfrm>
            <a:off x="1784520" y="1398600"/>
            <a:ext cx="1887480" cy="1969920"/>
            <a:chOff x="1784520" y="1398600"/>
            <a:chExt cx="1887480" cy="1969920"/>
          </a:xfrm>
        </p:grpSpPr>
        <p:pic>
          <p:nvPicPr>
            <p:cNvPr id="683" name="图片 2" descr=""/>
            <p:cNvPicPr/>
            <p:nvPr/>
          </p:nvPicPr>
          <p:blipFill>
            <a:blip r:embed="rId1"/>
            <a:stretch/>
          </p:blipFill>
          <p:spPr>
            <a:xfrm>
              <a:off x="1784520" y="148104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TextBox 4"/>
            <p:cNvSpPr/>
            <p:nvPr/>
          </p:nvSpPr>
          <p:spPr>
            <a:xfrm>
              <a:off x="1810080" y="139860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声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矩形 7"/>
          <p:cNvSpPr/>
          <p:nvPr/>
        </p:nvSpPr>
        <p:spPr>
          <a:xfrm>
            <a:off x="1762920" y="650880"/>
            <a:ext cx="203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shēn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1"/>
          <p:cNvSpPr/>
          <p:nvPr/>
        </p:nvSpPr>
        <p:spPr>
          <a:xfrm>
            <a:off x="5097240" y="3386160"/>
            <a:ext cx="214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hēnɡ y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声  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2" descr=""/>
          <p:cNvPicPr/>
          <p:nvPr/>
        </p:nvPicPr>
        <p:blipFill>
          <a:blip r:embed="rId2"/>
          <a:stretch/>
        </p:blipFill>
        <p:spPr>
          <a:xfrm>
            <a:off x="4805280" y="1128600"/>
            <a:ext cx="2824200" cy="202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组合 4"/>
          <p:cNvGrpSpPr/>
          <p:nvPr/>
        </p:nvGrpSpPr>
        <p:grpSpPr>
          <a:xfrm>
            <a:off x="1784520" y="1398600"/>
            <a:ext cx="1887480" cy="1969920"/>
            <a:chOff x="1784520" y="1398600"/>
            <a:chExt cx="1887480" cy="1969920"/>
          </a:xfrm>
        </p:grpSpPr>
        <p:pic>
          <p:nvPicPr>
            <p:cNvPr id="689" name="图片 2" descr=""/>
            <p:cNvPicPr/>
            <p:nvPr/>
          </p:nvPicPr>
          <p:blipFill>
            <a:blip r:embed="rId1"/>
            <a:stretch/>
          </p:blipFill>
          <p:spPr>
            <a:xfrm>
              <a:off x="1784520" y="148104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TextBox 4"/>
            <p:cNvSpPr/>
            <p:nvPr/>
          </p:nvSpPr>
          <p:spPr>
            <a:xfrm>
              <a:off x="1810080" y="139860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还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矩形 7"/>
          <p:cNvSpPr/>
          <p:nvPr/>
        </p:nvSpPr>
        <p:spPr>
          <a:xfrm>
            <a:off x="2159280" y="650880"/>
            <a:ext cx="113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há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矩形 1"/>
          <p:cNvSpPr/>
          <p:nvPr/>
        </p:nvSpPr>
        <p:spPr>
          <a:xfrm>
            <a:off x="5216760" y="3386160"/>
            <a:ext cx="14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ái z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还 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2" descr=""/>
          <p:cNvPicPr/>
          <p:nvPr/>
        </p:nvPicPr>
        <p:blipFill>
          <a:blip r:embed="rId2"/>
          <a:stretch/>
        </p:blipFill>
        <p:spPr>
          <a:xfrm>
            <a:off x="4672080" y="1066680"/>
            <a:ext cx="2435040" cy="20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3" descr="C:\Documents and Settings\Administrator\桌面\图片17.jpg"/>
          <p:cNvPicPr/>
          <p:nvPr/>
        </p:nvPicPr>
        <p:blipFill>
          <a:blip r:embed="rId1"/>
          <a:stretch/>
        </p:blipFill>
        <p:spPr>
          <a:xfrm>
            <a:off x="235080" y="382680"/>
            <a:ext cx="2128680" cy="530280"/>
          </a:xfrm>
          <a:prstGeom prst="rect">
            <a:avLst/>
          </a:prstGeom>
          <a:ln w="0">
            <a:noFill/>
          </a:ln>
        </p:spPr>
      </p:pic>
      <p:sp>
        <p:nvSpPr>
          <p:cNvPr id="695" name="矩形 2"/>
          <p:cNvSpPr/>
          <p:nvPr/>
        </p:nvSpPr>
        <p:spPr>
          <a:xfrm>
            <a:off x="2177280" y="1771560"/>
            <a:ext cx="62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左大括号 3"/>
          <p:cNvSpPr/>
          <p:nvPr/>
        </p:nvSpPr>
        <p:spPr>
          <a:xfrm>
            <a:off x="2892600" y="1384200"/>
            <a:ext cx="160200" cy="1152720"/>
          </a:xfrm>
          <a:custGeom>
            <a:avLst/>
            <a:gdLst>
              <a:gd name="textAreaLeft" fmla="*/ 102240 w 160200"/>
              <a:gd name="textAreaRight" fmla="*/ 160560 w 160200"/>
              <a:gd name="textAreaTop" fmla="*/ 3960 h 1152720"/>
              <a:gd name="textAreaBottom" fmla="*/ 114876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50"/>
                </a:cubicBezTo>
                <a:lnTo>
                  <a:pt x="10800" y="10550"/>
                </a:lnTo>
                <a:cubicBezTo>
                  <a:pt x="10800" y="10675"/>
                  <a:pt x="5400" y="10800"/>
                  <a:pt x="0" y="10800"/>
                </a:cubicBezTo>
                <a:cubicBezTo>
                  <a:pt x="5400" y="10800"/>
                  <a:pt x="10800" y="10925"/>
                  <a:pt x="10800" y="11050"/>
                </a:cubicBezTo>
                <a:lnTo>
                  <a:pt x="10800" y="21350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4"/>
          <p:cNvSpPr/>
          <p:nvPr/>
        </p:nvSpPr>
        <p:spPr>
          <a:xfrm>
            <a:off x="3122640" y="20638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huán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归还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5"/>
          <p:cNvSpPr/>
          <p:nvPr/>
        </p:nvSpPr>
        <p:spPr>
          <a:xfrm>
            <a:off x="3326400" y="1200240"/>
            <a:ext cx="19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hái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还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6"/>
          <p:cNvSpPr/>
          <p:nvPr/>
        </p:nvSpPr>
        <p:spPr>
          <a:xfrm>
            <a:off x="488880" y="3228840"/>
            <a:ext cx="8197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ái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uá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没有把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格林童话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归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ái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uá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给图书管理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8"/>
          <p:cNvSpPr/>
          <p:nvPr/>
        </p:nvSpPr>
        <p:spPr>
          <a:xfrm>
            <a:off x="1752480" y="3286080"/>
            <a:ext cx="89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5"/>
          <p:cNvSpPr/>
          <p:nvPr/>
        </p:nvSpPr>
        <p:spPr>
          <a:xfrm>
            <a:off x="852480" y="3976560"/>
            <a:ext cx="89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5" descr="F:\戴龙静\图库\ppt小照\生3.jpg"/>
          <p:cNvPicPr/>
          <p:nvPr/>
        </p:nvPicPr>
        <p:blipFill>
          <a:blip r:embed="rId2"/>
          <a:stretch/>
        </p:blipFill>
        <p:spPr>
          <a:xfrm>
            <a:off x="5857920" y="1143000"/>
            <a:ext cx="2413080" cy="208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3" descr=""/>
          <p:cNvPicPr/>
          <p:nvPr/>
        </p:nvPicPr>
        <p:blipFill>
          <a:blip r:embed="rId1"/>
          <a:stretch/>
        </p:blipFill>
        <p:spPr>
          <a:xfrm>
            <a:off x="709560" y="752400"/>
            <a:ext cx="2129040" cy="5288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3" descr=""/>
          <p:cNvPicPr/>
          <p:nvPr/>
        </p:nvPicPr>
        <p:blipFill>
          <a:blip r:embed="rId2"/>
          <a:stretch/>
        </p:blipFill>
        <p:spPr>
          <a:xfrm>
            <a:off x="5375160" y="752400"/>
            <a:ext cx="2127240" cy="528840"/>
          </a:xfrm>
          <a:prstGeom prst="rect">
            <a:avLst/>
          </a:prstGeom>
          <a:ln w="0">
            <a:noFill/>
          </a:ln>
        </p:spPr>
      </p:pic>
      <p:sp>
        <p:nvSpPr>
          <p:cNvPr id="705" name="矩形 13"/>
          <p:cNvSpPr/>
          <p:nvPr/>
        </p:nvSpPr>
        <p:spPr>
          <a:xfrm>
            <a:off x="1184400" y="1590840"/>
            <a:ext cx="23000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14"/>
          <p:cNvSpPr/>
          <p:nvPr/>
        </p:nvSpPr>
        <p:spPr>
          <a:xfrm>
            <a:off x="5459400" y="1590840"/>
            <a:ext cx="22240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5" descr="http://pic2.ooopic.com/12/51/41/50b1OOOPIC67.jpg"/>
          <p:cNvPicPr/>
          <p:nvPr/>
        </p:nvPicPr>
        <p:blipFill>
          <a:blip r:embed="rId3"/>
          <a:stretch/>
        </p:blipFill>
        <p:spPr>
          <a:xfrm>
            <a:off x="2960640" y="920880"/>
            <a:ext cx="2197080" cy="176184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5" descr="http://pic2.ooopic.com/12/51/41/50b1OOOPIC67.jpg"/>
          <p:cNvPicPr/>
          <p:nvPr/>
        </p:nvPicPr>
        <p:blipFill>
          <a:blip r:embed="rId4"/>
          <a:stretch/>
        </p:blipFill>
        <p:spPr>
          <a:xfrm>
            <a:off x="3570120" y="3054240"/>
            <a:ext cx="2198880" cy="1762200"/>
          </a:xfrm>
          <a:prstGeom prst="rect">
            <a:avLst/>
          </a:prstGeom>
          <a:ln w="0">
            <a:noFill/>
          </a:ln>
        </p:spPr>
      </p:pic>
      <p:sp>
        <p:nvSpPr>
          <p:cNvPr id="709" name="矩形 36871"/>
          <p:cNvSpPr txBox="1"/>
          <p:nvPr/>
        </p:nvSpPr>
        <p:spPr>
          <a:xfrm>
            <a:off x="7772400" y="461160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1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文本框 5"/>
          <p:cNvSpPr/>
          <p:nvPr/>
        </p:nvSpPr>
        <p:spPr>
          <a:xfrm>
            <a:off x="184320" y="785880"/>
            <a:ext cx="831528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真听朗读，想一想：这首诗主要描绘了一幅怎样的画面？画中都有哪些景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8" descr="图片3"/>
          <p:cNvPicPr/>
          <p:nvPr/>
        </p:nvPicPr>
        <p:blipFill>
          <a:blip r:embed="rId1"/>
          <a:stretch/>
        </p:blipFill>
        <p:spPr>
          <a:xfrm>
            <a:off x="2658960" y="2147760"/>
            <a:ext cx="4103640" cy="2867040"/>
          </a:xfrm>
          <a:prstGeom prst="rect">
            <a:avLst/>
          </a:prstGeom>
          <a:ln w="0">
            <a:noFill/>
          </a:ln>
        </p:spPr>
      </p:pic>
      <p:grpSp>
        <p:nvGrpSpPr>
          <p:cNvPr id="712" name="组合 3"/>
          <p:cNvGrpSpPr/>
          <p:nvPr/>
        </p:nvGrpSpPr>
        <p:grpSpPr>
          <a:xfrm>
            <a:off x="184320" y="263520"/>
            <a:ext cx="2062080" cy="544680"/>
            <a:chOff x="184320" y="263520"/>
            <a:chExt cx="2062080" cy="544680"/>
          </a:xfrm>
        </p:grpSpPr>
        <p:pic>
          <p:nvPicPr>
            <p:cNvPr id="713" name="图片 1" descr=""/>
            <p:cNvPicPr/>
            <p:nvPr/>
          </p:nvPicPr>
          <p:blipFill>
            <a:blip r:embed="rId2"/>
            <a:stretch/>
          </p:blipFill>
          <p:spPr>
            <a:xfrm>
              <a:off x="257400" y="27144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文本框 2"/>
            <p:cNvSpPr/>
            <p:nvPr/>
          </p:nvSpPr>
          <p:spPr>
            <a:xfrm>
              <a:off x="184320" y="26352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课文解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矩形 1"/>
          <p:cNvSpPr/>
          <p:nvPr/>
        </p:nvSpPr>
        <p:spPr>
          <a:xfrm>
            <a:off x="1254240" y="1289160"/>
            <a:ext cx="639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远看山有色，近听水无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春去花还在，人来鸟不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 2"/>
          <p:cNvSpPr/>
          <p:nvPr/>
        </p:nvSpPr>
        <p:spPr>
          <a:xfrm>
            <a:off x="650880" y="743040"/>
            <a:ext cx="72709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hu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uǎn kàn shān yǒu sè     jìn tīnɡ shuǐ wú shēn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chūn qù  huā hái zài      rén lái niǎo bù jīn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6" descr=""/>
          <p:cNvPicPr/>
          <p:nvPr/>
        </p:nvPicPr>
        <p:blipFill>
          <a:blip r:embed="rId1"/>
          <a:stretch/>
        </p:blipFill>
        <p:spPr>
          <a:xfrm>
            <a:off x="158760" y="114480"/>
            <a:ext cx="3094200" cy="2199960"/>
          </a:xfrm>
          <a:prstGeom prst="rect">
            <a:avLst/>
          </a:prstGeom>
          <a:ln w="0">
            <a:noFill/>
          </a:ln>
        </p:spPr>
      </p:pic>
      <p:sp>
        <p:nvSpPr>
          <p:cNvPr id="71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4" descr="C:\Documents and Settings\Administrator\桌面\29059272_37.jpg"/>
          <p:cNvPicPr/>
          <p:nvPr/>
        </p:nvPicPr>
        <p:blipFill>
          <a:blip r:embed="rId2"/>
          <a:stretch/>
        </p:blipFill>
        <p:spPr>
          <a:xfrm>
            <a:off x="4778280" y="966960"/>
            <a:ext cx="1133640" cy="86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0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矩形 1"/>
          <p:cNvSpPr/>
          <p:nvPr/>
        </p:nvSpPr>
        <p:spPr>
          <a:xfrm>
            <a:off x="1835280" y="353880"/>
            <a:ext cx="501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远看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色，近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2" descr="C:\Documents and Settings\Administrator\桌面\31738_171546027346_2_副本.jpg"/>
          <p:cNvPicPr/>
          <p:nvPr/>
        </p:nvPicPr>
        <p:blipFill>
          <a:blip r:embed="rId1"/>
          <a:stretch/>
        </p:blipFill>
        <p:spPr>
          <a:xfrm>
            <a:off x="1901880" y="1185840"/>
            <a:ext cx="4736880" cy="2819520"/>
          </a:xfrm>
          <a:prstGeom prst="rect">
            <a:avLst/>
          </a:prstGeom>
          <a:ln w="0">
            <a:noFill/>
          </a:ln>
        </p:spPr>
      </p:pic>
      <p:sp>
        <p:nvSpPr>
          <p:cNvPr id="722" name="矩形 4"/>
          <p:cNvSpPr/>
          <p:nvPr/>
        </p:nvSpPr>
        <p:spPr>
          <a:xfrm>
            <a:off x="187200" y="4202280"/>
            <a:ext cx="5013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两句描写了哪几种景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 5"/>
          <p:cNvSpPr/>
          <p:nvPr/>
        </p:nvSpPr>
        <p:spPr>
          <a:xfrm>
            <a:off x="4508640" y="4202280"/>
            <a:ext cx="1341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山和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矩形 2"/>
          <p:cNvSpPr/>
          <p:nvPr/>
        </p:nvSpPr>
        <p:spPr>
          <a:xfrm>
            <a:off x="219240" y="2065320"/>
            <a:ext cx="4200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诗意：在远处看，山是有颜色的，站在近处，听不见流水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4"/>
          <p:cNvSpPr/>
          <p:nvPr/>
        </p:nvSpPr>
        <p:spPr>
          <a:xfrm>
            <a:off x="219240" y="892080"/>
            <a:ext cx="4572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山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色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水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3" descr=""/>
          <p:cNvPicPr/>
          <p:nvPr/>
        </p:nvPicPr>
        <p:blipFill>
          <a:blip r:embed="rId1"/>
          <a:stretch/>
        </p:blipFill>
        <p:spPr>
          <a:xfrm>
            <a:off x="4921200" y="892080"/>
            <a:ext cx="3679920" cy="36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矩形 1"/>
          <p:cNvSpPr/>
          <p:nvPr/>
        </p:nvSpPr>
        <p:spPr>
          <a:xfrm>
            <a:off x="1835280" y="353880"/>
            <a:ext cx="501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春去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还在，人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2" descr=""/>
          <p:cNvPicPr/>
          <p:nvPr/>
        </p:nvPicPr>
        <p:blipFill>
          <a:blip r:embed="rId1"/>
          <a:stretch/>
        </p:blipFill>
        <p:spPr>
          <a:xfrm>
            <a:off x="684360" y="1352520"/>
            <a:ext cx="2920680" cy="287964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3" descr=""/>
          <p:cNvPicPr/>
          <p:nvPr/>
        </p:nvPicPr>
        <p:blipFill>
          <a:blip r:embed="rId2"/>
          <a:stretch/>
        </p:blipFill>
        <p:spPr>
          <a:xfrm>
            <a:off x="4152960" y="1263600"/>
            <a:ext cx="3216240" cy="282276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3" descr="C:\Documents and Settings\Administrator\桌面\3293538702491841438.gif"/>
          <p:cNvPicPr/>
          <p:nvPr/>
        </p:nvPicPr>
        <p:blipFill>
          <a:blip r:embed="rId3"/>
          <a:stretch/>
        </p:blipFill>
        <p:spPr>
          <a:xfrm>
            <a:off x="6692760" y="282600"/>
            <a:ext cx="1047960" cy="981000"/>
          </a:xfrm>
          <a:prstGeom prst="rect">
            <a:avLst/>
          </a:prstGeom>
          <a:ln w="0">
            <a:noFill/>
          </a:ln>
        </p:spPr>
      </p:pic>
      <p:sp>
        <p:nvSpPr>
          <p:cNvPr id="731" name="矩形 6"/>
          <p:cNvSpPr/>
          <p:nvPr/>
        </p:nvSpPr>
        <p:spPr>
          <a:xfrm>
            <a:off x="187200" y="4202280"/>
            <a:ext cx="5013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两句描写了哪几种景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矩形 7"/>
          <p:cNvSpPr/>
          <p:nvPr/>
        </p:nvSpPr>
        <p:spPr>
          <a:xfrm>
            <a:off x="4508640" y="4202280"/>
            <a:ext cx="1341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花和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组合 3"/>
          <p:cNvGrpSpPr/>
          <p:nvPr/>
        </p:nvGrpSpPr>
        <p:grpSpPr>
          <a:xfrm>
            <a:off x="184320" y="263520"/>
            <a:ext cx="2062080" cy="544680"/>
            <a:chOff x="184320" y="263520"/>
            <a:chExt cx="2062080" cy="544680"/>
          </a:xfrm>
        </p:grpSpPr>
        <p:pic>
          <p:nvPicPr>
            <p:cNvPr id="585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27144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文本框 2"/>
            <p:cNvSpPr/>
            <p:nvPr/>
          </p:nvSpPr>
          <p:spPr>
            <a:xfrm>
              <a:off x="184320" y="26352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新课导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7" name="Picture 5" descr="C:\Documents and Settings\Administrator\桌面\t1wjbjfp4cxxxxxxxx_!!0-item_pic_副本.jpg"/>
          <p:cNvPicPr/>
          <p:nvPr/>
        </p:nvPicPr>
        <p:blipFill>
          <a:blip r:embed="rId2"/>
          <a:stretch/>
        </p:blipFill>
        <p:spPr>
          <a:xfrm>
            <a:off x="409680" y="1116000"/>
            <a:ext cx="8391600" cy="335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矩形 2"/>
          <p:cNvSpPr/>
          <p:nvPr/>
        </p:nvSpPr>
        <p:spPr>
          <a:xfrm>
            <a:off x="219240" y="2065320"/>
            <a:ext cx="4200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诗意：春天过去了，花仍然开着，人到了跟前，鸟也不害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4"/>
          <p:cNvSpPr/>
          <p:nvPr/>
        </p:nvSpPr>
        <p:spPr>
          <a:xfrm>
            <a:off x="219240" y="892080"/>
            <a:ext cx="4572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春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去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还在，人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来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3" descr="C:\Documents and Settings\Administrator\桌面\图片1.jpg"/>
          <p:cNvPicPr/>
          <p:nvPr/>
        </p:nvPicPr>
        <p:blipFill>
          <a:blip r:embed="rId1"/>
          <a:stretch/>
        </p:blipFill>
        <p:spPr>
          <a:xfrm>
            <a:off x="4633920" y="1209600"/>
            <a:ext cx="4272120" cy="280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6" descr="F:\戴龙静\图库\ppt小照\思考.jpg"/>
          <p:cNvPicPr/>
          <p:nvPr/>
        </p:nvPicPr>
        <p:blipFill>
          <a:blip r:embed="rId1"/>
          <a:stretch/>
        </p:blipFill>
        <p:spPr>
          <a:xfrm>
            <a:off x="241200" y="2552760"/>
            <a:ext cx="1920960" cy="2400120"/>
          </a:xfrm>
          <a:prstGeom prst="rect">
            <a:avLst/>
          </a:prstGeom>
          <a:ln w="0">
            <a:noFill/>
          </a:ln>
        </p:spPr>
      </p:pic>
      <p:sp>
        <p:nvSpPr>
          <p:cNvPr id="737" name="云形标注 3"/>
          <p:cNvSpPr/>
          <p:nvPr/>
        </p:nvSpPr>
        <p:spPr>
          <a:xfrm>
            <a:off x="2162160" y="390600"/>
            <a:ext cx="5715000" cy="3047760"/>
          </a:xfrm>
          <a:prstGeom prst="cloudCallout">
            <a:avLst>
              <a:gd name="adj1" fmla="val -54000"/>
              <a:gd name="adj2" fmla="val 4625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为什么这首诗里的山有颜色，水却没有声音，春天已经过去了，花却还在，人来了鸟竟然也不怕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5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矩形 1"/>
          <p:cNvSpPr/>
          <p:nvPr/>
        </p:nvSpPr>
        <p:spPr>
          <a:xfrm>
            <a:off x="2405160" y="1214280"/>
            <a:ext cx="598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这首诗前一句对画面中远处的山、近处的水进行了描述，后一句描绘出了花和鸟的状态。“山有色，水无声，春去花还在，人来鸟不惊”，点明了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诗人描绘的是一幅山水画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3" descr="F:\戴龙静\图库\ppt小照\小牛.jpg"/>
          <p:cNvPicPr/>
          <p:nvPr/>
        </p:nvPicPr>
        <p:blipFill>
          <a:blip r:embed="rId1"/>
          <a:stretch/>
        </p:blipFill>
        <p:spPr>
          <a:xfrm>
            <a:off x="123840" y="338040"/>
            <a:ext cx="2757600" cy="25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矩形 2"/>
          <p:cNvSpPr/>
          <p:nvPr/>
        </p:nvSpPr>
        <p:spPr>
          <a:xfrm>
            <a:off x="171360" y="1090440"/>
            <a:ext cx="86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这首诗总的朗读基调是活泼的，朗读的速度要慢一些，感情要饱满，读出对这幅画的赞美之情。我们可以根据头脑中形成的画面去背，也可以抓住重点词语来背诵，如“山、水、花、鸟”，还可以抓住“远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近、有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无、来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去”这三组反义词来背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组合 3"/>
          <p:cNvGrpSpPr/>
          <p:nvPr/>
        </p:nvGrpSpPr>
        <p:grpSpPr>
          <a:xfrm>
            <a:off x="184320" y="263520"/>
            <a:ext cx="2062080" cy="544680"/>
            <a:chOff x="184320" y="263520"/>
            <a:chExt cx="2062080" cy="544680"/>
          </a:xfrm>
        </p:grpSpPr>
        <p:pic>
          <p:nvPicPr>
            <p:cNvPr id="742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27144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文本框 2"/>
            <p:cNvSpPr/>
            <p:nvPr/>
          </p:nvSpPr>
          <p:spPr>
            <a:xfrm>
              <a:off x="184320" y="26352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拓展延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矩形 4"/>
          <p:cNvSpPr/>
          <p:nvPr/>
        </p:nvSpPr>
        <p:spPr>
          <a:xfrm>
            <a:off x="527040" y="871560"/>
            <a:ext cx="8093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墨梅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［元］王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家洗砚池头树，朵朵花开淡墨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要人夸好颜色，只留清气满乾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6"/>
          <p:cNvSpPr/>
          <p:nvPr/>
        </p:nvSpPr>
        <p:spPr>
          <a:xfrm>
            <a:off x="504720" y="297000"/>
            <a:ext cx="862020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8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                 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mò  mé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wǒ  jiā  xǐ yàn chí tóu shù     duǒ duǒ huā kāi dàn mò hé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bú  yào rén kuā hǎo yán sè      zhǐ liú qīnɡ qì mǎn qián kū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矩形 1"/>
          <p:cNvSpPr/>
          <p:nvPr/>
        </p:nvSpPr>
        <p:spPr>
          <a:xfrm>
            <a:off x="162000" y="428760"/>
            <a:ext cx="46101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译文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家洗砚池边有一棵梅树，朵朵开放的梅花都显出淡淡的墨痕。不需要别人夸它的颜色好看，只需要梅花的清香之气弥漫在天地之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2" descr=""/>
          <p:cNvPicPr/>
          <p:nvPr/>
        </p:nvPicPr>
        <p:blipFill>
          <a:blip r:embed="rId1"/>
          <a:stretch/>
        </p:blipFill>
        <p:spPr>
          <a:xfrm>
            <a:off x="4743360" y="984240"/>
            <a:ext cx="428652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8" name="组合 3"/>
          <p:cNvGrpSpPr/>
          <p:nvPr/>
        </p:nvGrpSpPr>
        <p:grpSpPr>
          <a:xfrm>
            <a:off x="184320" y="263520"/>
            <a:ext cx="2062080" cy="544680"/>
            <a:chOff x="184320" y="263520"/>
            <a:chExt cx="2062080" cy="544680"/>
          </a:xfrm>
        </p:grpSpPr>
        <p:pic>
          <p:nvPicPr>
            <p:cNvPr id="749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27144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文本框 2"/>
            <p:cNvSpPr/>
            <p:nvPr/>
          </p:nvSpPr>
          <p:spPr>
            <a:xfrm>
              <a:off x="184320" y="26352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随堂演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矩形 1"/>
          <p:cNvSpPr/>
          <p:nvPr/>
        </p:nvSpPr>
        <p:spPr>
          <a:xfrm>
            <a:off x="500040" y="1909800"/>
            <a:ext cx="75772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字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画，第一画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字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画，第三画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字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画，第三画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矩形 3"/>
          <p:cNvSpPr/>
          <p:nvPr/>
        </p:nvSpPr>
        <p:spPr>
          <a:xfrm>
            <a:off x="1139400" y="123660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16"/>
          <p:cNvSpPr/>
          <p:nvPr/>
        </p:nvSpPr>
        <p:spPr>
          <a:xfrm>
            <a:off x="2901960" y="2003400"/>
            <a:ext cx="7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22"/>
          <p:cNvSpPr/>
          <p:nvPr/>
        </p:nvSpPr>
        <p:spPr>
          <a:xfrm>
            <a:off x="2901960" y="2651040"/>
            <a:ext cx="7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23"/>
          <p:cNvSpPr/>
          <p:nvPr/>
        </p:nvSpPr>
        <p:spPr>
          <a:xfrm>
            <a:off x="5964120" y="266400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24"/>
          <p:cNvSpPr/>
          <p:nvPr/>
        </p:nvSpPr>
        <p:spPr>
          <a:xfrm>
            <a:off x="2911320" y="3298680"/>
            <a:ext cx="7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25"/>
          <p:cNvSpPr/>
          <p:nvPr/>
        </p:nvSpPr>
        <p:spPr>
          <a:xfrm>
            <a:off x="5935680" y="329868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14" descr="C:\Documents and Settings\Administrator\桌面\图片2_副本.png"/>
          <p:cNvPicPr/>
          <p:nvPr/>
        </p:nvPicPr>
        <p:blipFill>
          <a:blip r:embed="rId2"/>
          <a:stretch/>
        </p:blipFill>
        <p:spPr>
          <a:xfrm>
            <a:off x="6188040" y="2112840"/>
            <a:ext cx="133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Picture 4" descr="F:\戴龙静\图库\ppt小照\狮子.jpg"/>
          <p:cNvPicPr/>
          <p:nvPr/>
        </p:nvPicPr>
        <p:blipFill>
          <a:blip r:embed="rId1"/>
          <a:stretch/>
        </p:blipFill>
        <p:spPr>
          <a:xfrm>
            <a:off x="2440080" y="941400"/>
            <a:ext cx="2127240" cy="2603520"/>
          </a:xfrm>
          <a:prstGeom prst="rect">
            <a:avLst/>
          </a:prstGeom>
          <a:ln w="0">
            <a:noFill/>
          </a:ln>
        </p:spPr>
      </p:pic>
      <p:sp>
        <p:nvSpPr>
          <p:cNvPr id="760" name="矩形 3"/>
          <p:cNvSpPr/>
          <p:nvPr/>
        </p:nvSpPr>
        <p:spPr>
          <a:xfrm>
            <a:off x="1101600" y="41760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连一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组合 3"/>
          <p:cNvGrpSpPr/>
          <p:nvPr/>
        </p:nvGrpSpPr>
        <p:grpSpPr>
          <a:xfrm>
            <a:off x="297000" y="941400"/>
            <a:ext cx="2127240" cy="2603520"/>
            <a:chOff x="297000" y="941400"/>
            <a:chExt cx="2127240" cy="2603520"/>
          </a:xfrm>
        </p:grpSpPr>
        <p:pic>
          <p:nvPicPr>
            <p:cNvPr id="762" name="Picture 4" descr="F:\戴龙静\图库\ppt小照\狮子.jpg"/>
            <p:cNvPicPr/>
            <p:nvPr/>
          </p:nvPicPr>
          <p:blipFill>
            <a:blip r:embed="rId2"/>
            <a:stretch/>
          </p:blipFill>
          <p:spPr>
            <a:xfrm>
              <a:off x="297000" y="941400"/>
              <a:ext cx="2127240" cy="26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矩形 2"/>
            <p:cNvSpPr/>
            <p:nvPr/>
          </p:nvSpPr>
          <p:spPr>
            <a:xfrm>
              <a:off x="767880" y="14166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远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矩形 13"/>
          <p:cNvSpPr/>
          <p:nvPr/>
        </p:nvSpPr>
        <p:spPr>
          <a:xfrm>
            <a:off x="2910600" y="1413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组合 4"/>
          <p:cNvGrpSpPr/>
          <p:nvPr/>
        </p:nvGrpSpPr>
        <p:grpSpPr>
          <a:xfrm>
            <a:off x="4245120" y="941400"/>
            <a:ext cx="2127240" cy="2603520"/>
            <a:chOff x="4245120" y="941400"/>
            <a:chExt cx="2127240" cy="2603520"/>
          </a:xfrm>
        </p:grpSpPr>
        <p:pic>
          <p:nvPicPr>
            <p:cNvPr id="766" name="Picture 4" descr="F:\戴龙静\图库\ppt小照\狮子.jpg"/>
            <p:cNvPicPr/>
            <p:nvPr/>
          </p:nvPicPr>
          <p:blipFill>
            <a:blip r:embed="rId3"/>
            <a:stretch/>
          </p:blipFill>
          <p:spPr>
            <a:xfrm>
              <a:off x="4245120" y="941400"/>
              <a:ext cx="2127240" cy="26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矩形 14"/>
            <p:cNvSpPr/>
            <p:nvPr/>
          </p:nvSpPr>
          <p:spPr>
            <a:xfrm>
              <a:off x="4716000" y="12877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听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组合 5"/>
          <p:cNvGrpSpPr/>
          <p:nvPr/>
        </p:nvGrpSpPr>
        <p:grpSpPr>
          <a:xfrm>
            <a:off x="6283440" y="941400"/>
            <a:ext cx="2127240" cy="2603520"/>
            <a:chOff x="6283440" y="941400"/>
            <a:chExt cx="2127240" cy="2603520"/>
          </a:xfrm>
        </p:grpSpPr>
        <p:pic>
          <p:nvPicPr>
            <p:cNvPr id="769" name="Picture 4" descr="F:\戴龙静\图库\ppt小照\狮子.jpg"/>
            <p:cNvPicPr/>
            <p:nvPr/>
          </p:nvPicPr>
          <p:blipFill>
            <a:blip r:embed="rId4"/>
            <a:stretch/>
          </p:blipFill>
          <p:spPr>
            <a:xfrm>
              <a:off x="6283440" y="941400"/>
              <a:ext cx="2127240" cy="26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矩形 15"/>
            <p:cNvSpPr/>
            <p:nvPr/>
          </p:nvSpPr>
          <p:spPr>
            <a:xfrm>
              <a:off x="6754320" y="12610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矩形 27"/>
          <p:cNvSpPr/>
          <p:nvPr/>
        </p:nvSpPr>
        <p:spPr>
          <a:xfrm>
            <a:off x="4587480" y="3879720"/>
            <a:ext cx="144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yuǎ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矩形 28"/>
          <p:cNvSpPr/>
          <p:nvPr/>
        </p:nvSpPr>
        <p:spPr>
          <a:xfrm>
            <a:off x="2806200" y="3879720"/>
            <a:ext cx="121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tī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矩形 29"/>
          <p:cNvSpPr/>
          <p:nvPr/>
        </p:nvSpPr>
        <p:spPr>
          <a:xfrm>
            <a:off x="652320" y="3879720"/>
            <a:ext cx="172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shē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矩形 30"/>
          <p:cNvSpPr/>
          <p:nvPr/>
        </p:nvSpPr>
        <p:spPr>
          <a:xfrm>
            <a:off x="6617160" y="3879720"/>
            <a:ext cx="73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s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85185E-006 L 0.58542 -0.62037 E">
                                      <p:cBhvr>
                                        <p:cTn id="674" dur="2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85185E-006 L 0.15208 -0.61667 E">
                                      <p:cBhvr>
                                        <p:cTn id="678" dur="2000" fill="hold"/>
                                        <p:tgtEl>
                                          <p:spTgt spid="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85185E-006 L -0.49167 -0.59074 E">
                                      <p:cBhvr>
                                        <p:cTn id="682" dur="2000" fill="hold"/>
                                        <p:tgtEl>
                                          <p:spTgt spid="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85185E-006 L -0.43125 -0.57963 E">
                                      <p:cBhvr>
                                        <p:cTn id="686" dur="20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组合 3"/>
          <p:cNvGrpSpPr/>
          <p:nvPr/>
        </p:nvGrpSpPr>
        <p:grpSpPr>
          <a:xfrm>
            <a:off x="184320" y="263520"/>
            <a:ext cx="2062080" cy="544680"/>
            <a:chOff x="184320" y="263520"/>
            <a:chExt cx="2062080" cy="544680"/>
          </a:xfrm>
        </p:grpSpPr>
        <p:pic>
          <p:nvPicPr>
            <p:cNvPr id="776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27144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文本框 2"/>
            <p:cNvSpPr/>
            <p:nvPr/>
          </p:nvSpPr>
          <p:spPr>
            <a:xfrm>
              <a:off x="184320" y="26352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课堂作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矩形 2"/>
          <p:cNvSpPr/>
          <p:nvPr/>
        </p:nvSpPr>
        <p:spPr>
          <a:xfrm>
            <a:off x="811080" y="1406520"/>
            <a:ext cx="71899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熟读课文，背诵这首诗给爸爸妈妈听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田字格里认真、正确地书写本课生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C:\Documents and Settings\Administrator\桌面\20091223_17f327ee9b1bb88b5454ESVLfY14QqWV.jpg"/>
          <p:cNvPicPr/>
          <p:nvPr/>
        </p:nvPicPr>
        <p:blipFill>
          <a:blip r:embed="rId1"/>
          <a:stretch/>
        </p:blipFill>
        <p:spPr>
          <a:xfrm>
            <a:off x="304920" y="531720"/>
            <a:ext cx="3171600" cy="42418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3" descr="C:\Documents and Settings\Administrator\桌面\10f58PICS8g_1024.jpg"/>
          <p:cNvPicPr/>
          <p:nvPr/>
        </p:nvPicPr>
        <p:blipFill>
          <a:blip r:embed="rId2"/>
          <a:stretch/>
        </p:blipFill>
        <p:spPr>
          <a:xfrm>
            <a:off x="4124160" y="733320"/>
            <a:ext cx="3838680" cy="38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组合 3"/>
          <p:cNvGrpSpPr/>
          <p:nvPr/>
        </p:nvGrpSpPr>
        <p:grpSpPr>
          <a:xfrm>
            <a:off x="184320" y="263520"/>
            <a:ext cx="2062080" cy="544680"/>
            <a:chOff x="184320" y="263520"/>
            <a:chExt cx="2062080" cy="544680"/>
          </a:xfrm>
        </p:grpSpPr>
        <p:pic>
          <p:nvPicPr>
            <p:cNvPr id="591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27144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文本框 2"/>
            <p:cNvSpPr/>
            <p:nvPr/>
          </p:nvSpPr>
          <p:spPr>
            <a:xfrm>
              <a:off x="184320" y="26352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作者简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矩形 1"/>
          <p:cNvSpPr/>
          <p:nvPr/>
        </p:nvSpPr>
        <p:spPr>
          <a:xfrm>
            <a:off x="210960" y="1590840"/>
            <a:ext cx="68961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王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1—76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字摩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m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诘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ié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盛唐诗人、画家。太原祁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q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（今属山西）人，因官至尚书右丞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hén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世称“王右丞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C:\Documents and Settings\Administrator\桌面\ry17_副本.jpg"/>
          <p:cNvPicPr/>
          <p:nvPr/>
        </p:nvPicPr>
        <p:blipFill>
          <a:blip r:embed="rId2"/>
          <a:stretch/>
        </p:blipFill>
        <p:spPr>
          <a:xfrm>
            <a:off x="6772320" y="923760"/>
            <a:ext cx="2087640" cy="31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矩形 1"/>
          <p:cNvSpPr/>
          <p:nvPr/>
        </p:nvSpPr>
        <p:spPr>
          <a:xfrm>
            <a:off x="371520" y="1038240"/>
            <a:ext cx="841068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维多才多艺，不仅诗歌造诣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yì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很高，而且精通书画和音乐。中年后致力于山水田园诗的创作，是盛唐时期山水田园诗派的代表作家。“诗中有画”是其诗歌的主要特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主要作品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送元二使安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九月九日忆山东兄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居秋暝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mín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至塞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3"/>
          <p:cNvGrpSpPr/>
          <p:nvPr/>
        </p:nvGrpSpPr>
        <p:grpSpPr>
          <a:xfrm>
            <a:off x="184320" y="263520"/>
            <a:ext cx="2062080" cy="544680"/>
            <a:chOff x="184320" y="263520"/>
            <a:chExt cx="2062080" cy="544680"/>
          </a:xfrm>
        </p:grpSpPr>
        <p:pic>
          <p:nvPicPr>
            <p:cNvPr id="597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27144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文本框 2"/>
            <p:cNvSpPr/>
            <p:nvPr/>
          </p:nvSpPr>
          <p:spPr>
            <a:xfrm>
              <a:off x="184320" y="26352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知识备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9" name="Picture 11" descr="C:\Documents and Settings\Administrator\桌面\图片2.jpg"/>
          <p:cNvPicPr/>
          <p:nvPr/>
        </p:nvPicPr>
        <p:blipFill>
          <a:blip r:embed="rId2"/>
          <a:stretch/>
        </p:blipFill>
        <p:spPr>
          <a:xfrm>
            <a:off x="514440" y="1332000"/>
            <a:ext cx="3828960" cy="27194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2" descr="C:\Documents and Settings\Administrator\桌面\图片3.jpg"/>
          <p:cNvPicPr/>
          <p:nvPr/>
        </p:nvPicPr>
        <p:blipFill>
          <a:blip r:embed="rId3"/>
          <a:stretch/>
        </p:blipFill>
        <p:spPr>
          <a:xfrm>
            <a:off x="4830840" y="1332000"/>
            <a:ext cx="379872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10" descr="C:\Documents and Settings\Administrator\桌面\图片5.jpg"/>
          <p:cNvPicPr/>
          <p:nvPr/>
        </p:nvPicPr>
        <p:blipFill>
          <a:blip r:embed="rId1"/>
          <a:stretch/>
        </p:blipFill>
        <p:spPr>
          <a:xfrm>
            <a:off x="4681440" y="1149480"/>
            <a:ext cx="3929040" cy="26985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3" descr="C:\Documents and Settings\Administrator\桌面\图片4.jpg"/>
          <p:cNvPicPr/>
          <p:nvPr/>
        </p:nvPicPr>
        <p:blipFill>
          <a:blip r:embed="rId2"/>
          <a:stretch/>
        </p:blipFill>
        <p:spPr>
          <a:xfrm>
            <a:off x="257040" y="1149480"/>
            <a:ext cx="3888000" cy="269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矩形 4"/>
          <p:cNvSpPr/>
          <p:nvPr/>
        </p:nvSpPr>
        <p:spPr>
          <a:xfrm>
            <a:off x="3219480" y="974880"/>
            <a:ext cx="5600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中国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画又叫水墨画，是用毛笔、墨、颜料在宣纸、绢帛上作画。中国画讲究诗、书、画印相互映衬，融为一体。中国画的装裱形式也很有特色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10" descr="C:\Documents and Settings\Administrator\桌面\图片5.jpg"/>
          <p:cNvPicPr/>
          <p:nvPr/>
        </p:nvPicPr>
        <p:blipFill>
          <a:blip r:embed="rId1"/>
          <a:stretch/>
        </p:blipFill>
        <p:spPr>
          <a:xfrm>
            <a:off x="708120" y="3511440"/>
            <a:ext cx="2338200" cy="16066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1" descr="C:\Documents and Settings\Administrator\桌面\图片2.jpg"/>
          <p:cNvPicPr/>
          <p:nvPr/>
        </p:nvPicPr>
        <p:blipFill>
          <a:blip r:embed="rId2"/>
          <a:stretch/>
        </p:blipFill>
        <p:spPr>
          <a:xfrm>
            <a:off x="708120" y="46080"/>
            <a:ext cx="2338200" cy="16603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2" descr="C:\Documents and Settings\Administrator\桌面\图片3.jpg"/>
          <p:cNvPicPr/>
          <p:nvPr/>
        </p:nvPicPr>
        <p:blipFill>
          <a:blip r:embed="rId3"/>
          <a:stretch/>
        </p:blipFill>
        <p:spPr>
          <a:xfrm>
            <a:off x="708120" y="1801800"/>
            <a:ext cx="2338200" cy="16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7:05:12Z</dcterms:created>
  <dc:creator/>
  <dc:description/>
  <dc:language>en-US</dc:language>
  <cp:lastModifiedBy>万润仪器贸易公司</cp:lastModifiedBy>
  <dcterms:modified xsi:type="dcterms:W3CDTF">2020-08-24T01:53:50Z</dcterms:modified>
  <cp:revision>17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